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95F-5BFF-4851-BBF7-78A1968E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CFC-2CD9-4FFF-BF30-AA4C43A6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017-EBA8-4F15-A56A-E5EF2907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966-19D0-400B-B3EE-2CA3B6E6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802-A005-451A-A8CF-7AD82E53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6F4-A854-4952-8E83-05403FDD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377-60FA-4297-A35F-C0D4BEF8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B8C-8CAF-4257-8B80-322F617E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AAE-5FDE-45B9-9E54-F9A2AF85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B40-64B2-4A60-8208-F1C7AD6A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9DC-DF0E-4C96-90EE-8308723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54A-E964-4214-AACE-CF2F473A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A94-D14C-4670-83B3-9A79396EB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504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333399"/>
              </a:solidFill>
              <a:latin typeface="Niagara Soli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1752480"/>
            <a:ext cx="83059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uhaus 93"/>
              </a:rPr>
              <a:t>Water Cycle</a:t>
            </a:r>
            <a:endParaRPr b="1" lang="en-US" sz="6000" spc="1" strike="noStrike">
              <a:ln w="12600">
                <a:solidFill>
                  <a:srgbClr val="0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ond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s the water vapor rises, it cools off and ______________________ into water _________________. If the water vapor becomes extremely cold, it will form ice ________________ instead of water droplets. As the water droplets or ice crystals grow bigger and more numerous, they form 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62485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l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137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f water droplets or ice crystals become too _______________, they can’t stay in the air. They _________________. Water droplets precipitate as ________________ and ice crystals precipitate as _________________. Sometimes, the rain freezes before it hits the earth and precipitates as 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219320"/>
            <a:ext cx="624852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137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Run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his precipitation gathers into ________________ and _________________ that flow down to the lakes and oceans. This is called __________________. Not all of the water makes it back to the oceans and lakes right away. Some of it is used by animals and ________________. Some is frozen into ___________________. Eventually, the animals and plants breathe the water out and the glaciers melt, releasing the water back into the water ____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914400"/>
            <a:ext cx="6248520" cy="862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c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137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find water in many places and in many forms. Water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8 of these water words.  Create a story, poem or song using the words you sel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43400" y="1447920"/>
          <a:ext cx="4267080" cy="4516200"/>
        </p:xfrm>
        <a:graphic>
          <a:graphicData uri="http://schemas.openxmlformats.org/drawingml/2006/table">
            <a:tbl>
              <a:tblPr/>
              <a:tblGrid>
                <a:gridCol w="1574640"/>
                <a:gridCol w="1346400"/>
                <a:gridCol w="1346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ice cu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t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d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ici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H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vap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Glac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Icebe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waterf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l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C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T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w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200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5 ways you use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847680" y="1004760"/>
            <a:ext cx="4768920" cy="5301360"/>
            <a:chOff x="3847680" y="1004760"/>
            <a:chExt cx="4768920" cy="5301360"/>
          </a:xfrm>
        </p:grpSpPr>
        <p:sp>
          <p:nvSpPr>
            <p:cNvPr id="47" name="_s34828"/>
            <p:cNvSpPr/>
            <p:nvPr/>
          </p:nvSpPr>
          <p:spPr>
            <a:xfrm flipH="1" flipV="1">
              <a:off x="5085720" y="2993400"/>
              <a:ext cx="57276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4827"/>
            <p:cNvSpPr/>
            <p:nvPr/>
          </p:nvSpPr>
          <p:spPr>
            <a:xfrm>
              <a:off x="3847680" y="1996920"/>
              <a:ext cx="132552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4826"/>
            <p:cNvSpPr/>
            <p:nvPr/>
          </p:nvSpPr>
          <p:spPr>
            <a:xfrm flipH="1">
              <a:off x="5085720" y="3985920"/>
              <a:ext cx="572760" cy="33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4825"/>
            <p:cNvSpPr/>
            <p:nvPr/>
          </p:nvSpPr>
          <p:spPr>
            <a:xfrm>
              <a:off x="3847680" y="3985920"/>
              <a:ext cx="132552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4836"/>
            <p:cNvSpPr/>
            <p:nvPr/>
          </p:nvSpPr>
          <p:spPr>
            <a:xfrm>
              <a:off x="6232320" y="4317480"/>
              <a:ext cx="0" cy="66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4835"/>
            <p:cNvSpPr/>
            <p:nvPr/>
          </p:nvSpPr>
          <p:spPr>
            <a:xfrm>
              <a:off x="5569560" y="4980240"/>
              <a:ext cx="1325160" cy="1325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4834"/>
            <p:cNvSpPr/>
            <p:nvPr/>
          </p:nvSpPr>
          <p:spPr>
            <a:xfrm>
              <a:off x="6805440" y="3985920"/>
              <a:ext cx="572760" cy="33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4833"/>
            <p:cNvSpPr/>
            <p:nvPr/>
          </p:nvSpPr>
          <p:spPr>
            <a:xfrm>
              <a:off x="7291080" y="3985920"/>
              <a:ext cx="132552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4832"/>
            <p:cNvSpPr/>
            <p:nvPr/>
          </p:nvSpPr>
          <p:spPr>
            <a:xfrm flipV="1">
              <a:off x="6805440" y="2993760"/>
              <a:ext cx="572760" cy="33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4831"/>
            <p:cNvSpPr/>
            <p:nvPr/>
          </p:nvSpPr>
          <p:spPr>
            <a:xfrm>
              <a:off x="7291080" y="1999080"/>
              <a:ext cx="1325520" cy="1325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4824"/>
            <p:cNvSpPr/>
            <p:nvPr/>
          </p:nvSpPr>
          <p:spPr>
            <a:xfrm flipV="1">
              <a:off x="6232320" y="2330280"/>
              <a:ext cx="0" cy="66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4823"/>
            <p:cNvSpPr/>
            <p:nvPr/>
          </p:nvSpPr>
          <p:spPr>
            <a:xfrm>
              <a:off x="5569560" y="1004760"/>
              <a:ext cx="132516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o brush tee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4822"/>
            <p:cNvSpPr/>
            <p:nvPr/>
          </p:nvSpPr>
          <p:spPr>
            <a:xfrm>
              <a:off x="5569560" y="2993760"/>
              <a:ext cx="132516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ys 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use wa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6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-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 that happens again and a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e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hange from liquid to g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ense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hange from gas to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ain, snow, sleet, or h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iration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water given off by plants and 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of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water that stays above 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if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underground water 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 the term and its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1447920"/>
          <a:ext cx="8534520" cy="4760640"/>
        </p:xfrm>
        <a:graphic>
          <a:graphicData uri="http://schemas.openxmlformats.org/drawingml/2006/table">
            <a:tbl>
              <a:tblPr/>
              <a:tblGrid>
                <a:gridCol w="2900520"/>
                <a:gridCol w="5634000"/>
              </a:tblGrid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Cyc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hange from gas to liqu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change from liquid to g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something that happens again and ag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Water given off by living th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i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Water that stays above grou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of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Rain, snow, sleet, ha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if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Underground water sour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 diagram of the water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3429000"/>
            <a:ext cx="25095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something that happens over and over again.  Many materials cycle through nature.  Water moves through a cyc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po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ppens when the sun warms the water.  The water changes to water vapor and goes into the air.  Most evaporation is from the ocean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dens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ppens when the water vapor cools.  Tiny droplets of water in the air form cloud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he droplets become large enough, they fall a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cipit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usually rain or snow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water goes into the ground.  It becomes groundwa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water goes into streams, rivers and lakes a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of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2 kinds of precipi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evap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cess happens after evap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temperature important in the water cyc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6572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48520" y="1371600"/>
            <a:ext cx="2438280" cy="43977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terms to label th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276720"/>
            <a:ext cx="1524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94400">
            <a:off x="2812680" y="4113000"/>
            <a:ext cx="2514600" cy="4572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283000">
            <a:off x="2665440" y="2368440"/>
            <a:ext cx="2260440" cy="4510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60800">
            <a:off x="444240" y="2356920"/>
            <a:ext cx="2070000" cy="4572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74320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97180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320040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283000">
            <a:off x="1752480" y="4876560"/>
            <a:ext cx="1176480" cy="3697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Evap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n a warm, sunny day, water in a glass of water seems to slowly disappear. This is because the energy from the sun is _______________ the water up and turning the liquid water into water ______________. This process is called ___________________. When the water evaporates, it becomes an invisible gas in the _____________________. Evaporation takes places all over the earth, but especially in the ________________ and ________________ where there is lots of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990720"/>
            <a:ext cx="5181480" cy="862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p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po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137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25:31Z</dcterms:created>
  <dc:creator>SGANSK</dc:creator>
  <dc:description/>
  <dc:language>en-US</dc:language>
  <cp:lastModifiedBy>SGANSK</cp:lastModifiedBy>
  <dcterms:modified xsi:type="dcterms:W3CDTF">2008-06-26T17:11:58Z</dcterms:modified>
  <cp:revision>12</cp:revision>
  <dc:subject/>
  <dc:title>Slide 1</dc:title>
</cp:coreProperties>
</file>